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8C2-EB1C-4081-B4B8-8E76D40A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063-24EA-4E7B-90DD-4B4360CC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2FE-E128-4BC5-B554-3B0E33E7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3DA-AD42-4875-8B88-A762FF41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216-EE3B-43E0-962C-DF63FF53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FEC-08FF-4EAA-9061-5873A953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19E-128F-4985-84D4-51832C36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E71-2343-4412-98E5-D1016211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655-AC74-4F22-971F-4DD378A0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432-1C66-4C46-A256-C8F9A55F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B7B-4D56-46BD-BEA1-6D9529D1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67D-5ECC-43C3-A787-3A348985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3031-F618-41F7-8160-2C685302659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إعراض عن فهم دين الله وعدم سماع الح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خو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تكون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 وحد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الهداية من الله وحد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4005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تعالى علم من خلقه ما هم عاملون قبل خلق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5013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له تعالى علم من خلقه ما هم عاملون قبل خلق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ن الله قدر مقادير الخلق قبل أن يخلق السموات والأرض بخمسين ألف سنة وكان عرشه على الماء)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2"/>
          <a:stretch/>
        </p:blipFill>
        <p:spPr>
          <a:xfrm>
            <a:off x="2243160" y="3209760"/>
            <a:ext cx="6576840" cy="53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3"/>
          <a:stretch/>
        </p:blipFill>
        <p:spPr>
          <a:xfrm>
            <a:off x="2668680" y="3944880"/>
            <a:ext cx="4787640" cy="4716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50920" y="5877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طاب في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رسو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2195640" y="5835600"/>
            <a:ext cx="45370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1484280"/>
            <a:ext cx="8665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عنى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هذا المثل مثل القوم الذين كانوا ضالين قبل أن تأتيهم بالهدى والرسالة ثم جئتهم بذلك فبقوا على ضلالتهم ولم ينتفعوا بذلك فمثلهم كمثل الك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8600" y="2924280"/>
            <a:ext cx="866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وء العاق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8600" y="3645000"/>
            <a:ext cx="8666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ثبات يطلب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2484360" y="1401840"/>
            <a:ext cx="4535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20500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طبيق ذلك على نفسه أول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هله ثاني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قاربه الأقرب فالأقر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باقي المسلم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925560" y="1050840"/>
            <a:ext cx="792324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353440" cy="377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89000" y="3213000"/>
            <a:ext cx="589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من يرد الله به خيراً يفقه في الدين 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403280" y="2349360"/>
            <a:ext cx="5184720" cy="57492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50920" y="4037040"/>
            <a:ext cx="5895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لَا تَزُولُ قَدَمَا عَبْدٍ يَوْمَ الْقِيَامَةِ حَتَّى يُسْأَلَ عَنْ أَرْبَعٍ : ... وَعَنْ عِلْمِهِ ، مَا صَنَعَ فِيهِ ؟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3534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23920" y="4941720"/>
            <a:ext cx="8691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نفي الاستفادة منها في متابعة الح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246320" y="1052640"/>
            <a:ext cx="764352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509760" y="3141720"/>
            <a:ext cx="8407080" cy="165564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50920" y="191628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تشبيه بالكلب أبلغ من غير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3"/>
          <a:stretch/>
        </p:blipFill>
        <p:spPr>
          <a:xfrm>
            <a:off x="250920" y="2254320"/>
            <a:ext cx="86421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42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6120" y="836640"/>
            <a:ext cx="8591760" cy="568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39640" y="4172040"/>
            <a:ext cx="8210520" cy="105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56560" cy="281916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203640" y="4332240"/>
            <a:ext cx="41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ذم ترك العمل بما تعلم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82440" y="895320"/>
            <a:ext cx="8977320" cy="584676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3357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غرته الدنيا عن الاخر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50920" y="386064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ل إلى شهوات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4365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خلقنا ل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494028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سمعون العظات سماع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589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رون الآيات رؤي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23736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هم أضي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24000" y="971640"/>
            <a:ext cx="3456000" cy="533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5508720" y="971640"/>
            <a:ext cx="339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بالعلم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غب بها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ائدة العمل بالع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رفعة من الله لصاحبه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صمة من الشيط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2852640"/>
            <a:ext cx="866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عراض عن دين الله بعد العلم 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ط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3500280"/>
            <a:ext cx="866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خط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إعراض عن دين الله بعد العلم ب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79736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غواية وتسلط الشيطا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تباع الهوى والميل إلى الشهوات المحر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4849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تمسك بالد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رفعة في الدنيا والفلاح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150920" y="4000680"/>
            <a:ext cx="7669080" cy="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